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2.wmf" ContentType="image/x-wmf"/>
  <Override PartName="/ppt/media/image20.wmf" ContentType="image/x-wmf"/>
  <Override PartName="/ppt/media/image18.wmf" ContentType="image/x-wmf"/>
  <Override PartName="/ppt/media/image5.jpeg" ContentType="image/jpeg"/>
  <Override PartName="/ppt/media/image9.wmf" ContentType="image/x-wmf"/>
  <Override PartName="/ppt/media/image6.wmf" ContentType="image/x-wmf"/>
  <Override PartName="/ppt/media/image29.wmf" ContentType="image/x-wmf"/>
  <Override PartName="/ppt/media/image7.wmf" ContentType="image/x-wmf"/>
  <Override PartName="/ppt/media/image11.jpeg" ContentType="image/jpeg"/>
  <Override PartName="/ppt/media/cashreg.wav" ContentType="audio/x-wav"/>
  <Override PartName="/ppt/media/image8.wmf" ContentType="image/x-wmf"/>
  <Override PartName="/ppt/media/image12.jpeg" ContentType="image/jpeg"/>
  <Override PartName="/ppt/media/image10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15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3.wmf" ContentType="image/x-wmf"/>
  <Override PartName="/ppt/media/image14.wmf" ContentType="image/x-wmf"/>
  <Override PartName="/ppt/media/image16.png" ContentType="image/png"/>
  <Override PartName="/ppt/media/image17.wmf" ContentType="image/x-wmf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8C1B-A43F-4046-9AC6-117DCBB83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D0F5-A153-425E-BD0B-7D2E7833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E3690-A124-4A39-81DB-92B9CD82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F96F5-7837-4A8F-89AF-51E23D65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94635-5213-46BD-A12D-6C2755A1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1E7970-E583-45B1-8237-1D17F200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669FB3-1E5A-4171-AEC5-FB741714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2826F-32DB-4E39-BA87-CDC151AD7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84D3F1-B04D-4E87-BF26-C8F73E95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AA35F-4186-4981-BA7A-085D6AF1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007EB-F870-4E52-9382-83A12428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EBF8D-7B74-4289-B672-85B6340F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CEC6-950F-434E-AB4F-FEFDC30A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A9CE0-313D-4377-B85A-9D18D220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9A572-A554-45A0-AB8B-9E7A1CD8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1323AE-E082-4C3B-AD66-E84098AC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3DE74-9701-431B-97C3-58D3538B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CA2AE-49E6-4E90-A0E1-34F1F473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1D408-3BA5-488C-9AF0-FF405FB4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C5A1E4-7771-448F-B0CB-B1E44876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0B037-BE8F-4BD3-8894-BC2B8EDB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956F63-F9E4-4F02-BA0C-71AAF63A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AF404-C8E9-4C0C-928A-FE5B04491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E862-CDF4-4FAA-8685-62D7B320A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BFA40-9CEE-4F9E-9305-54F45F08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67149-FD3D-4CB8-85CF-BA84D5560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9A75A-4CC2-4445-A3A4-803F541A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22D0BE-BC38-447E-80E1-4094E252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1B2FE6-4AB5-4DEF-A123-C18CF94CD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A6B7E-1C77-4BB7-AA8B-2FE53456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FB609-BA3F-41DB-B80B-A4B76AC2D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AB21E-23F0-4FCB-8E7C-CAA72EAE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2645A-987E-4E7D-B14C-BD986555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B4807-C393-4A33-84DE-CEB55CDD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3D3C-128B-4AF3-8192-AE65A92D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1831-79A4-4D14-89A0-AFC47631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3CDA0-891B-43EE-BF11-EACF522F4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A89E5-5D45-4819-A402-3E0BA25E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E70107-D1E7-40A2-8DFC-EFE7FF79D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61AB50-9628-484C-9207-6F760CBE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F440D-9306-4A41-A205-B51C13C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F63BA7-05EE-4E89-B3B6-4BFD8547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BEB852-9A33-4DCE-A8AA-4E08A9A1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3E264-0E8F-41AA-B7EF-103E337B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C4A1BD-E813-48F7-BD29-CE2E65C5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0C46-3536-46D9-B8DB-0A3245721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9C392F-5262-4E67-A15A-76EF7794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5CFE0-0200-4C2A-AA59-9A4476D2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64A1C6-4A66-4CAB-9125-36D24263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9C0D5-B93B-447E-B7D2-A01B4DD4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00F61-20ED-44F9-908E-30602FCC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D0A2D-F3DD-4384-9BB2-0937F8D8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B3F8-329D-42F9-9F25-B5BF15EC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1DA2-B2E3-4236-B35A-613807BC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0157-CD40-4F52-876C-070335E3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1AE4-047A-4BAA-92FD-232CC92B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989C-4A99-43B2-B230-9078ADF1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AF76-610F-4946-B092-0127D6B3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D2D2-9E71-4422-82AF-94B0A4A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260A-F167-4679-B04E-59E948CE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B22C-793A-43FA-AC15-001A583A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1451-53E1-4469-B971-2B28562D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C5665-0F47-41E8-9147-0020F8AC5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72DBF-192F-4DC6-B5F5-CABDBEC1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B6E9E-0A61-41B2-B786-7319AE8B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97085-4F74-44A4-89F3-B40DE02C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92A57-70B2-45E5-86AD-CBBBFD37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0D21-FD1A-43AB-84D2-CB4D7AD3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FF93-007F-4C86-A915-BE4195FF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CB426-4245-440F-B371-CD3BCFC3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5CF5C-C53E-49B3-9D92-AD8C4814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562A3-562F-4835-A14A-F3A5C32B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43C6-2C09-46EF-A363-A186F154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81548-DBD2-4982-844F-E35B17FAE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F06B2-CE9D-4D05-988A-893768CD5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08566-870A-4CB7-8EFC-D5902853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DE19C-5596-4ADF-BEE5-719CF7F58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ED90-5D94-4050-8D16-B2E4F249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A4CA-26A1-453C-A618-9ED42A634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A3F44-4FA3-4002-A4D7-47CFE2CC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9EE4F-508E-4B7C-B488-B6B539AB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5C39B-B79C-4CFB-9F95-0D2DCD25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C539-2B6E-4320-B182-656DB89C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EAA4-3290-4D32-AA60-7904DC2B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82C8F-B6CF-41A7-85C0-F4246440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22F72-E401-4E67-AC93-21157B5A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B0EA-D56C-4F96-A740-B7CCEA32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6AF0C-EB3F-49BC-B15E-CD37C8BB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F7F69-1937-47B3-BA36-01EB8EE7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360-B6BD-4F06-839D-775C20BF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00AA-ACC4-4E1C-AEBC-34DD7925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44044-9D84-48AC-9C23-C543E5112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37F1-09D2-4A61-8AB6-B301C40B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2D9BF-F951-4B5C-AD40-EBBFDD24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9C485-44C4-48D2-B6D1-AF8C3521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F42D-3E0E-48E8-AD51-9A2E1472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65909-3C28-4B16-AC6F-5BD2A528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F51AC-269C-4C74-B84D-A2441406B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4FE50-B9B2-4FFE-9D23-64F23D4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2EC5D-2DFD-41CC-9734-ECDFEABC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DDE-7D06-4BFE-AA3F-3935CEF0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FF2DF-7EEF-4C4C-BA9F-7F1407F8F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D2C59-9410-4CCD-9EFD-EEED6D09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E852D-04A4-4112-AC45-A296045B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38080-9DD2-4D26-8C00-25219EBD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370A27-82FD-4102-AFAF-2426C8AFA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C9B3-B2FA-48AB-BF51-E69246668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F08FDD-BD63-4EB4-B467-8C01B6D5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69E22-1FF5-458B-979D-C691C335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1EDD3-C635-47C7-8112-E72B568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34496-FE3B-434D-A49F-F4F54166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AAA-26EF-4A08-87C1-269E55CD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E975D-A62D-44C3-B982-7893210D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A7D94-2240-44AF-A0FF-7CE40322C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20616-5DB1-415D-B345-F4EFCBEC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FA72D7-1682-4D45-951C-BD90A60E1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C6F7-3D6A-4AD9-A11C-FFD1B8D0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42496-F2D2-4618-A2A6-78FA4B68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B76F9-CA48-41D0-90D5-E9AD1DBB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DB6FD-F616-4E9C-9CC3-499A69D5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2C09-9C59-4B5C-9A55-062DDDB2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DEB60-820C-4843-92F0-CC4B1376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DB52-6661-4482-8F15-45856504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0B67C-3A93-4815-B2A5-5574D927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0A7E5-36F8-419F-B9D8-46BDDF33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B2550-E92F-42E7-AA20-D620605F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A9703-98B6-4CDA-9E46-A6DDD44B8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9DACE-2990-47E7-96A9-16B26E45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AF0A5-3276-4CC2-90FC-D6627803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33658-9BF6-4F4E-847F-B42F1133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D57F7-6566-440F-B2F6-7607EBD2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15CC3-424F-4D0D-B5CE-B5BC52090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5757D0-7A79-4802-B93B-15731D90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F377-854F-4D89-BC30-24061CBD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F2ADD9-245A-499B-AE47-B6111C46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07255-B038-415D-BEC9-C2849DF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A230B-733C-403A-89CD-4E75805D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3356-6240-4F28-9FF5-C1877FF0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C90BA-F4F9-4133-BE53-228FDFCE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10EFA-E17C-431E-A4B8-4A53C331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7AE02-DEEE-451A-9222-6C41E7AFB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8704B-4CFB-4089-AE47-E1C2C109C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BD8ED-04B0-4C16-A55E-E27C2240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B0AD9-5000-45A1-AE55-7D42E01B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75D-2651-4553-BDCA-65E95B3F9E3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3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3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3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B796-F151-4421-B0DE-4D03F5838DD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48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48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48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229-987D-4BFE-9DDD-6F516AD35EE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52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52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3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5D30-421D-467B-8BFC-1F43EB3EB6A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7F04-16A9-40AA-B729-F1C4088FC44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9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0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6664-C6C1-4A36-9C9E-9CC89AA9FBB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4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4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C78E-AE8B-49BA-A0FA-CEAC9298410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92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93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96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1399D-D3EF-4C2C-9614-336B848E941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40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41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43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44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E14D-A967-474C-B067-3CD058CE399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8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9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0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91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92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3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0CB6-3A00-417C-BFA9-F7E5682BBA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2BCF-D852-4B32-8954-D39B0BB75D0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38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38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38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D1C1-FB05-4B3F-B556-B3BAEE86A25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991440" y="1372320"/>
            <a:ext cx="7084800" cy="184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Calisto MT"/>
              </a:rPr>
              <a:t>How well do you know Mrs. Studer?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radley Hand ITC"/>
              </a:rPr>
              <a:t>A little trivia about your math teach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7" name="Picture 4" descr="j0217698"/>
          <p:cNvPicPr/>
          <p:nvPr/>
        </p:nvPicPr>
        <p:blipFill>
          <a:blip r:embed="rId1"/>
          <a:stretch/>
        </p:blipFill>
        <p:spPr>
          <a:xfrm>
            <a:off x="3657600" y="49528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is my favorite snack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d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gel food cak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anut but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of the ab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8" name="Picture 5" descr="MC900199113[1]"/>
          <p:cNvPicPr/>
          <p:nvPr/>
        </p:nvPicPr>
        <p:blipFill>
          <a:blip r:embed="rId1"/>
          <a:stretch/>
        </p:blipFill>
        <p:spPr>
          <a:xfrm>
            <a:off x="5867280" y="4167360"/>
            <a:ext cx="2346480" cy="2108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06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.  All of the abov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Yummmmmm!     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(Also yogurt, nuts, fruit, pretzels, and much more!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1" name="Picture 12" descr="MP900444229[1]"/>
          <p:cNvPicPr/>
          <p:nvPr/>
        </p:nvPicPr>
        <p:blipFill>
          <a:blip r:embed="rId1"/>
          <a:stretch/>
        </p:blipFill>
        <p:spPr>
          <a:xfrm>
            <a:off x="3200400" y="4114800"/>
            <a:ext cx="3132000" cy="2084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rue or False:</a:t>
            </a:r>
            <a:br>
              <a:rPr sz="4000"/>
            </a:b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I used to teach at the YMCA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4" name="Picture 5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667240" cy="20271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0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9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True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was an instructor, program director, and branch manager at the Towpath Trail YMCA in Navarre, Ohio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7" name="Picture 4" descr="MC900286650[1]"/>
          <p:cNvPicPr/>
          <p:nvPr/>
        </p:nvPicPr>
        <p:blipFill>
          <a:blip r:embed="rId1"/>
          <a:stretch/>
        </p:blipFill>
        <p:spPr>
          <a:xfrm>
            <a:off x="3886200" y="4648320"/>
            <a:ext cx="1424160" cy="1861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What is my favorite color?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lu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ello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in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urp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 of the ab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0" name="Picture 4" descr="MC900232724[1]"/>
          <p:cNvPicPr/>
          <p:nvPr/>
        </p:nvPicPr>
        <p:blipFill>
          <a:blip r:embed="rId1"/>
          <a:stretch/>
        </p:blipFill>
        <p:spPr>
          <a:xfrm>
            <a:off x="5029200" y="3200400"/>
            <a:ext cx="2357280" cy="2084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D.  Green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alisto MT"/>
              </a:rPr>
              <a:t>	</a:t>
            </a:r>
            <a:r>
              <a:rPr b="0" lang="en-US" sz="3200" spc="-1" strike="noStrike">
                <a:solidFill>
                  <a:srgbClr val="003366"/>
                </a:solidFill>
                <a:latin typeface="Calisto MT"/>
              </a:rPr>
              <a:t>I love the color green, and the patterns of argyle, plaid, and paisley!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3" name="Picture 4" descr="MC900083417[1]"/>
          <p:cNvPicPr/>
          <p:nvPr/>
        </p:nvPicPr>
        <p:blipFill>
          <a:blip r:embed="rId1"/>
          <a:stretch/>
        </p:blipFill>
        <p:spPr>
          <a:xfrm>
            <a:off x="1676520" y="3581280"/>
            <a:ext cx="1846080" cy="280368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5" descr="MC900354260[1]"/>
          <p:cNvPicPr/>
          <p:nvPr/>
        </p:nvPicPr>
        <p:blipFill>
          <a:blip r:embed="rId2"/>
          <a:stretch/>
        </p:blipFill>
        <p:spPr>
          <a:xfrm rot="16200000">
            <a:off x="3962160" y="3973320"/>
            <a:ext cx="2558880" cy="201924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6" descr="C:\Users\Studer lap\AppData\Local\Microsoft\Windows\Temporary Internet Files\Content.IE5\JM39GIJU\MC900210548[1].wmf"/>
          <p:cNvPicPr/>
          <p:nvPr/>
        </p:nvPicPr>
        <p:blipFill>
          <a:blip r:embed="rId3"/>
          <a:stretch/>
        </p:blipFill>
        <p:spPr>
          <a:xfrm rot="5400000">
            <a:off x="5577480" y="4568040"/>
            <a:ext cx="3554640" cy="666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4" name="cashreg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0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ch sport is my favorite to play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Kick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Socc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Volley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Footba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Go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Californian FB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All of the ab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8" name="Picture 4" descr="j0285698"/>
          <p:cNvPicPr/>
          <p:nvPr/>
        </p:nvPicPr>
        <p:blipFill>
          <a:blip r:embed="rId1"/>
          <a:stretch/>
        </p:blipFill>
        <p:spPr>
          <a:xfrm>
            <a:off x="4286160" y="3124080"/>
            <a:ext cx="1138320" cy="121608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5" descr="j0183168"/>
          <p:cNvPicPr/>
          <p:nvPr/>
        </p:nvPicPr>
        <p:blipFill>
          <a:blip r:embed="rId2"/>
          <a:stretch/>
        </p:blipFill>
        <p:spPr>
          <a:xfrm>
            <a:off x="6858000" y="2438280"/>
            <a:ext cx="1139760" cy="9986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6" descr="j0301480"/>
          <p:cNvPicPr/>
          <p:nvPr/>
        </p:nvPicPr>
        <p:blipFill>
          <a:blip r:embed="rId3"/>
          <a:stretch/>
        </p:blipFill>
        <p:spPr>
          <a:xfrm>
            <a:off x="6553080" y="4494240"/>
            <a:ext cx="1494000" cy="11113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7" descr="j0299763"/>
          <p:cNvPicPr/>
          <p:nvPr/>
        </p:nvPicPr>
        <p:blipFill>
          <a:blip r:embed="rId4"/>
          <a:stretch/>
        </p:blipFill>
        <p:spPr>
          <a:xfrm>
            <a:off x="4495680" y="5334120"/>
            <a:ext cx="1141560" cy="939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5" name="cashreg.wav"/>
      </p:stSnd>
    </p:sndAc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.  Volleyb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I played volleyball all through school and college, and then coached 7</a:t>
            </a:r>
            <a:r>
              <a:rPr b="0" lang="en-US" sz="2800" spc="-1" strike="noStrike" baseline="30000">
                <a:solidFill>
                  <a:srgbClr val="003366"/>
                </a:solidFill>
                <a:latin typeface="Californian FB"/>
              </a:rPr>
              <a:t>th</a:t>
            </a:r>
            <a:r>
              <a:rPr b="0" lang="en-US" sz="2800" spc="-1" strike="noStrike">
                <a:solidFill>
                  <a:srgbClr val="003366"/>
                </a:solidFill>
                <a:latin typeface="Californian FB"/>
              </a:rPr>
              <a:t> grade volleyball for four years.  </a:t>
            </a:r>
            <a:r>
              <a:rPr b="0" lang="en-US" sz="2000" spc="-1" strike="noStrike">
                <a:solidFill>
                  <a:srgbClr val="003366"/>
                </a:solidFill>
                <a:latin typeface="Californian FB"/>
              </a:rPr>
              <a:t>(Until I had kids)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4" name="Picture 5" descr="MC900436021[1]"/>
          <p:cNvPicPr/>
          <p:nvPr/>
        </p:nvPicPr>
        <p:blipFill>
          <a:blip r:embed="rId1"/>
          <a:stretch/>
        </p:blipFill>
        <p:spPr>
          <a:xfrm>
            <a:off x="3962520" y="4267080"/>
            <a:ext cx="1573200" cy="216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12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Lucida Fax"/>
              </a:rPr>
              <a:t>Which celebrity chef did I meet in perso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cco Dispir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ula De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uy Fier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andra Le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eril Lagass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achel R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37" name="Picture 3" descr="C:\Users\h\AppData\Local\Microsoft\Windows\Temporary Internet Files\Content.IE5\N06A6TB1\MC900013023[1].wmf"/>
          <p:cNvPicPr/>
          <p:nvPr/>
        </p:nvPicPr>
        <p:blipFill>
          <a:blip r:embed="rId1"/>
          <a:stretch/>
        </p:blipFill>
        <p:spPr>
          <a:xfrm>
            <a:off x="5105520" y="3124080"/>
            <a:ext cx="1996920" cy="1489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3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30" dur="2000" fill="hold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34" dur="2000" fill="hold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38" dur="2000" fill="hold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42" dur="2000" fill="hold"/>
                                        <p:tgtEl>
                                          <p:spTgt spid="6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46" dur="2000" fill="hold"/>
                                        <p:tgtEl>
                                          <p:spTgt spid="6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4 C 0.081 0.049 0.102 0.054 0.124 0.054 C 0.149 0.054 0.169 0.049 0.183 0.04 L 0.25 0 E">
                                      <p:cBhvr>
                                        <p:cTn id="450" dur="2000" fill="hold"/>
                                        <p:tgtEl>
                                          <p:spTgt spid="6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.  Sandra Le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 CENA"/>
              </a:rPr>
              <a:t>I met her last year in Charlotte at the Women’s Expo.  She signed her autobiography for me and had her picture taken with me.  I was crazy happy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2895480" y="3962520"/>
            <a:ext cx="3505320" cy="2628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 or Fals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Comic Sans MS"/>
              </a:rPr>
              <a:t>I am married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0" name="Picture 5" descr="MC900347201[1]"/>
          <p:cNvPicPr/>
          <p:nvPr/>
        </p:nvPicPr>
        <p:blipFill>
          <a:blip r:embed="rId1"/>
          <a:stretch/>
        </p:blipFill>
        <p:spPr>
          <a:xfrm>
            <a:off x="3657600" y="4267080"/>
            <a:ext cx="1822320" cy="18036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are my best attribute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838080" y="2286000"/>
            <a:ext cx="7693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rganiz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plain things w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gh expectat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ai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Kin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pectfu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iend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04000" indent="-5040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o many to lis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ashreg.wav"/>
      </p:stSnd>
    </p:sndAc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5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.  Too many to list!!! 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(Hahahahahahaaaaa)!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 try my bes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45" name="Picture 2" descr="C:\Users\Studer lap\AppData\Local\Microsoft\Windows\Temporary Internet Files\Content.IE5\L28S21DP\MC900434421[1].wmf"/>
          <p:cNvPicPr/>
          <p:nvPr/>
        </p:nvPicPr>
        <p:blipFill>
          <a:blip r:embed="rId1"/>
          <a:stretch/>
        </p:blipFill>
        <p:spPr>
          <a:xfrm>
            <a:off x="3886200" y="4572000"/>
            <a:ext cx="1460520" cy="1314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2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3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Book Antiqua"/>
              </a:rPr>
              <a:t>What is my biggest pet pee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838080" y="23619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Chewing on I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Whi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Interrup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Not saying, “Excuse me” (or all other manner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Packing up before dismiss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Ly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Not paying atten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88520" indent="-48852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Bradley Hand ITC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radley Hand ITC"/>
              </a:rPr>
              <a:t>Too many to list!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ashreg.wav"/>
      </p:stSnd>
    </p:sndAc>
  </p:transition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549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54" dur="2000" fill="hold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58" dur="20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62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66" dur="2000" fill="hold"/>
                                        <p:tgtEl>
                                          <p:spTgt spid="6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70" dur="2000" fill="hold"/>
                                        <p:tgtEl>
                                          <p:spTgt spid="6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74" dur="2000" fill="hold"/>
                                        <p:tgtEl>
                                          <p:spTgt spid="6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78" dur="2000" fill="hold"/>
                                        <p:tgtEl>
                                          <p:spTgt spid="6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582" dur="2000" fill="hold"/>
                                        <p:tgtEl>
                                          <p:spTgt spid="6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H.  Too many to list!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Euphemia"/>
              </a:rPr>
              <a:t>Do your bes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50" name="Picture 2" descr="C:\Users\Studer lap\AppData\Local\Microsoft\Windows\Temporary Internet Files\Content.IE5\L28S21DP\MC900131697[1].wmf"/>
          <p:cNvPicPr/>
          <p:nvPr/>
        </p:nvPicPr>
        <p:blipFill>
          <a:blip r:embed="rId1"/>
          <a:stretch/>
        </p:blipFill>
        <p:spPr>
          <a:xfrm>
            <a:off x="3886200" y="4267080"/>
            <a:ext cx="1601640" cy="18288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8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93" dur="20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2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0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Thank you!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Bookman Old Style"/>
              </a:rPr>
              <a:t>Let’s have a great yea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53" name="Picture 4" descr="MC900438253[1]"/>
          <p:cNvPicPr/>
          <p:nvPr/>
        </p:nvPicPr>
        <p:blipFill>
          <a:blip r:embed="rId1"/>
          <a:stretch/>
        </p:blipFill>
        <p:spPr>
          <a:xfrm>
            <a:off x="3886200" y="4572000"/>
            <a:ext cx="1720800" cy="17971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06" dur="2000" fill="hold"/>
                                        <p:tgtEl>
                                          <p:spTgt spid="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married my husband,Todd, on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December 12, 1992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mic Sans MS"/>
              </a:rPr>
              <a:t>(How many years is that????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hecker dir="vert"/>
    <p:sndAc>
      <p:stSnd>
        <p:snd r:embed="rId1" name="cashreg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indefinite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indefinite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8" dur="indefinite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ue or False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have two children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5" name="Picture 4" descr="MC900445300[1]"/>
          <p:cNvPicPr/>
          <p:nvPr/>
        </p:nvPicPr>
        <p:blipFill>
          <a:blip r:embed="rId1"/>
          <a:stretch/>
        </p:blipFill>
        <p:spPr>
          <a:xfrm>
            <a:off x="2590920" y="4572000"/>
            <a:ext cx="1733400" cy="17431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" descr="MC900445306[1]"/>
          <p:cNvPicPr/>
          <p:nvPr/>
        </p:nvPicPr>
        <p:blipFill>
          <a:blip r:embed="rId2"/>
          <a:stretch/>
        </p:blipFill>
        <p:spPr>
          <a:xfrm>
            <a:off x="4724280" y="4572000"/>
            <a:ext cx="1801800" cy="17654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ashreg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AL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have three boys:                  Ryan, 14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Reed, 10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(almost 11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Roman, 8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9" name="Picture 1" descr=""/>
          <p:cNvPicPr/>
          <p:nvPr/>
        </p:nvPicPr>
        <p:blipFill>
          <a:blip r:embed="rId1"/>
          <a:stretch/>
        </p:blipFill>
        <p:spPr>
          <a:xfrm>
            <a:off x="3124080" y="4890960"/>
            <a:ext cx="2934000" cy="1955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ch pet do I hav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Dog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C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Rabbi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Fish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Gerbil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All of the abov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2" name="Picture 4" descr="j0304933"/>
          <p:cNvPicPr/>
          <p:nvPr/>
        </p:nvPicPr>
        <p:blipFill>
          <a:blip r:embed="rId1"/>
          <a:stretch/>
        </p:blipFill>
        <p:spPr>
          <a:xfrm>
            <a:off x="4114800" y="3886200"/>
            <a:ext cx="833400" cy="76356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MC900016533[1]"/>
          <p:cNvPicPr/>
          <p:nvPr/>
        </p:nvPicPr>
        <p:blipFill>
          <a:blip r:embed="rId2"/>
          <a:stretch/>
        </p:blipFill>
        <p:spPr>
          <a:xfrm>
            <a:off x="6019920" y="4343400"/>
            <a:ext cx="1027080" cy="7160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MC900020443[1]"/>
          <p:cNvPicPr/>
          <p:nvPr/>
        </p:nvPicPr>
        <p:blipFill>
          <a:blip r:embed="rId3"/>
          <a:stretch/>
        </p:blipFill>
        <p:spPr>
          <a:xfrm>
            <a:off x="6553080" y="2514600"/>
            <a:ext cx="1067040" cy="98568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MC900052778[1]"/>
          <p:cNvPicPr/>
          <p:nvPr/>
        </p:nvPicPr>
        <p:blipFill>
          <a:blip r:embed="rId4"/>
          <a:stretch/>
        </p:blipFill>
        <p:spPr>
          <a:xfrm>
            <a:off x="7620120" y="5029200"/>
            <a:ext cx="930240" cy="9414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8" descr="MC900438167[1]"/>
          <p:cNvPicPr/>
          <p:nvPr/>
        </p:nvPicPr>
        <p:blipFill>
          <a:blip r:embed="rId5"/>
          <a:stretch/>
        </p:blipFill>
        <p:spPr>
          <a:xfrm>
            <a:off x="4648320" y="2743200"/>
            <a:ext cx="680760" cy="861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6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8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. Do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Comic Sans MS"/>
              </a:rPr>
              <a:t>I have one dog, Buster.  He is a   10-year-old black lab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9" name="Picture 6" descr="funny Buster"/>
          <p:cNvPicPr/>
          <p:nvPr/>
        </p:nvPicPr>
        <p:blipFill>
          <a:blip r:embed="rId1"/>
          <a:stretch/>
        </p:blipFill>
        <p:spPr>
          <a:xfrm>
            <a:off x="2895480" y="4038480"/>
            <a:ext cx="3727440" cy="2214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n which state was I bor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w York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Ohio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South Carolin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Washingto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1001"/>
              </a:spcBef>
              <a:buClr>
                <a:srgbClr val="003366"/>
              </a:buClr>
              <a:buSzPct val="75000"/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Alask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2" name="Picture 5" descr="MP900382902[1]"/>
          <p:cNvPicPr/>
          <p:nvPr/>
        </p:nvPicPr>
        <p:blipFill>
          <a:blip r:embed="rId1"/>
          <a:stretch/>
        </p:blipFill>
        <p:spPr>
          <a:xfrm>
            <a:off x="4952880" y="3787920"/>
            <a:ext cx="3733920" cy="2666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.  Ohi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My family and I moved here from Ohio in the summer of 2007.  This is my fifth year at MCM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05" name="Picture 4" descr="MC900101192[1]"/>
          <p:cNvPicPr/>
          <p:nvPr/>
        </p:nvPicPr>
        <p:blipFill>
          <a:blip r:embed="rId1"/>
          <a:stretch/>
        </p:blipFill>
        <p:spPr>
          <a:xfrm>
            <a:off x="4572000" y="3352680"/>
            <a:ext cx="3129120" cy="3306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2" name="cashreg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19:07:24Z</dcterms:created>
  <dc:creator> </dc:creator>
  <dc:description/>
  <dc:language>en-US</dc:language>
  <cp:lastModifiedBy>h</cp:lastModifiedBy>
  <dcterms:modified xsi:type="dcterms:W3CDTF">2011-08-09T01:00:06Z</dcterms:modified>
  <cp:revision>24</cp:revision>
  <dc:subject/>
  <dc:title>How well do you know Mrs. Studer?</dc:title>
</cp:coreProperties>
</file>